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BB4-400A-4B68-813A-7F37F176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226-04BE-42EF-A826-7365435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D46-A663-4AB0-8465-94A1FDFA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470-A595-4562-8FDC-0E45B6A7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2F7-4206-4E51-8C08-89E214BF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EB6-106E-472F-924F-6BA48A5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2A1-04DC-4340-A1B1-8384373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4A4-9AB3-44BD-9180-DE4DB20C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B41-A788-4A26-94AC-AE027194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938-3822-4080-8011-0CDA684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17A-4C94-42C0-B1CB-6DFE285E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1DD-B1EC-4A50-A9FC-D212BB1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793-E1E8-40EF-A9C7-B3CE8C18C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fo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ud/ice masking (Steinar / Ow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ght separation of clouds and ice (Steinar); ice detection using only IR channels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ce in capability to mask water from ice/clouds on daytime, twilight and nighttime (Stein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rm water from rivers outflows where the water temperature can be 10 K warmer than the prior SST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an ice class to the Bayesian cloud detection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the Bayesian cloud detection so it is less reliant on the prior/NWP SST, change the assumptions about prior SST error in coastal regions (Ow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ifference between Steinar and Owen’s Bayesian cloud/ice detection methods : use of clear air RT simulations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NWP-based RT simulations in the Arctic (Pier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roblem in our OSI SAF METOP prototype : adjusting brightness temperature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s based on OSTIA foundation SSTs are very difficult to compare with observations, since foundation SST is very scarcely observed from space in low wind and permanent solar illumination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drastic wind filtering before adjusting brightness temperature simulations in the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S to write a paper on 7 years of METOP-A Arctic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(?) to build up a profile data base adapted to Arctic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S to prepare regional high latitude algorithms as a back-up to simulation-derived BTs for METOP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S and DMI to compare METOP biases (derived from NWP simulations and from Jacob’s SST correction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T algorithms in the Arctic (Jaco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ST products (AATSR, AVHRRs and AMSR-E) have in general larger errors in the Arctic, compared to Global and Southern Ocea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ases generally depend upon Solar Zenith angle and TW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VHRR biases found in operational products as well as CCI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gional AVHRR coefficients can improve biases, largest improvements in daytim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tic NWP profiles with “large SST errors” are more humid and warmer than profiles with “low SST error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up the paper on CCI high latitud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MMS to further examine NWP in relation to SST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llect in-situ data set for high latitude Arctic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velop MW OE Sea Ice  and SST processor for AMSR-E and AMS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s-based SST retrieval in the Arctic (Ch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rrors in RT simulations can arise from surface temperature errors, RT model errors and/or NWP profiles errors (idea about NWP errors in the Arctic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rror covariance of RT simulations is not well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s/solu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as tolerant” approaches for SST retriev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ified Total Least Square (Prabhat Ko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the OE retrieval “bias a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0:07:45Z</dcterms:created>
  <dc:creator>cms</dc:creator>
  <dc:description/>
  <dc:language>en-US</dc:language>
  <cp:lastModifiedBy>cms</cp:lastModifiedBy>
  <dcterms:modified xsi:type="dcterms:W3CDTF">2013-12-18T11:57:39Z</dcterms:modified>
  <cp:revision>15</cp:revision>
  <dc:subject/>
  <dc:title>Session 1</dc:title>
</cp:coreProperties>
</file>